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582-00C0-40D7-AB3C-929E79BE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C24-E3AA-4AA7-B881-60DF5BD8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2973C-7A9A-43F3-B681-EF767FF4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28881-14C0-45F0-AB38-9008C881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5E417-9C69-4AB8-BD62-1294095F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5C1E9-7BA3-4AA2-8F8A-91A64FFD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7CDAB-9918-419A-BAE6-30FDFD6A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D3D85-DDAF-417F-90A4-C7475FC2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C2AF0-4ED3-4360-A0FE-46D9F8E7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6DC9C-FD78-4DA5-B1EC-DACCE70D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D0BCB-08FC-404F-A478-8DF07EFC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54C88-DB69-4FAD-82DE-4DE71D6C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8F6-50C6-47A9-AABB-D769C4FF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2338D-E7BA-4673-8F60-7352E446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2D834-BF9F-4FDB-897D-B2F7A5D2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3AFF8-11F6-45F8-B726-545E44AF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0B274-DF98-4B54-86CC-AA75C49C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3CCE8-A716-4F09-9CA9-A21C0021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841F1-0732-4E8D-9AD5-65A08377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99624-82CE-44BC-88CA-1B8B1F54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B90D0-F10E-4B21-84BB-727C2B31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ED487-0511-445B-8922-440BA64B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06E30-5F21-4B85-BC26-68FCFAAB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140-5A00-4CC3-BF0B-FB9D100E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38556-8E1C-4387-863A-2833ADD8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1D09D-447E-40E2-A8A0-57492B9E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EE56E-C68D-4A44-A868-1BFBA49C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05D26-7362-4BC1-9EC1-ED69CFD7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7B663-A771-4012-86E7-C88C3437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17720-42B3-4C07-9AAE-BE2988BE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D122F-3672-4FEE-84C9-6F59E234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96C6F-9AE8-4BF7-AF7D-238E148F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15ABB-2320-4196-969D-51AE6A09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C6E68-6E0D-4A17-8932-5B144F1F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1057-5CF9-4A75-8A56-D38A1D5E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63A81-298F-421E-8ACF-CEBC23DD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F08B5-326F-40A6-B6A3-F06D66F3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AF704-CA73-4EB8-B003-FAF9A7DA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21DD3-0533-483D-8E7C-AB6949BB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2E855-E463-42DA-925A-5E1EAE8D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C4173-03B0-4B8E-9985-DEE7CCCE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77FCE-8F00-4524-B9BB-F6561E07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FBC15-6FCE-4696-862F-C5BED027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77436-922B-4687-815F-73D58B36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3C967-C86F-4F39-8A51-73355E7C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E5AA-DB44-46BE-907D-90145235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F0035-93C6-4E6E-BDF3-77FF04FA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7682E-AE91-48DA-B3A8-4D2FBA4A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1C8F7-47D4-4CB0-85BF-AE46F060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82216-88A3-4428-AC0B-58BDF632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9DE19-EF11-4298-BBA4-C77D6E56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B7AA2-CB30-4D96-9B98-5432513F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BC5D8-D0F8-4F34-9385-C5CEC001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CA1BF-167F-4AD9-9CA8-F2BBBFCB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DF20E-186A-41B2-BA39-AB56A27E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1CAEA-8516-415D-A03C-2638FA5F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3668-9C16-4D72-88E7-79E3A33E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9A6233-4E4D-4A21-8674-6F2EF95F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ACF2F-F7B5-44A8-A16C-1071DB36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B2FAC-7230-44DB-B146-A4250C3F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4FFA6-7736-42C6-A8CC-B29473A2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023A5-7ED4-4BC9-A06A-96ED0B2C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E91CB-1C77-45A8-916F-A6255C88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FD826-AF2F-4F31-A791-F88EED6E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04DAB-291A-4D13-80DD-7E0CEE66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AC2B2-A753-46C2-B560-6CD810AE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0B92E-34EE-494F-8BC9-638472B6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61B3-C014-47EF-A4D9-4F57C972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DF23CF-E846-476E-8941-316AAB5D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EA23C-39D8-44B0-A406-3DB403C9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8C654-22AA-41D3-AD18-345EDB32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5DC12-4D4F-4C1B-A3C1-911E759E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58E48-2156-4370-9607-F53240B8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F1F69-FE7B-44F6-B2C1-1558F8EF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4510C1-8B95-4DD2-A98C-3D66A185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0A7265-538D-4CDA-809D-3406227E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1D8A1C-29B7-44D5-A64A-A5E90ABC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51E933-0330-4C33-B7FD-A0F991EB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EF83-B84B-4E7D-BBC9-6251F922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E77D29-29EF-4298-B923-5A5614DE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D42969-2172-4485-88A4-093B2D60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94868-909D-4EB2-AE57-CA5D89F5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621FCA-8475-4195-99C3-64E03977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490053-C7B2-43E9-AA14-8FE2DD69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8CD0DA-6D22-4207-A1F4-0001B025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5AD28-0AA9-4D93-800A-486D5D17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32F8B6-BABB-43AF-AB1A-DC6ADDFA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B4D26-DE89-4AFC-B06E-5566B26B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3A5366-F7DD-4268-91D7-B5A8ED5D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B69F-1C61-4AF8-85D1-549C253A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C1FB5-7FE4-4181-8914-841668D9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8488A5-5741-4B6E-98C1-374DD98B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D885E-CFB5-45D3-AEEB-526F3BAB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4CFD9F-BF1F-4E0C-BFFB-DD247EFE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869940-EAE9-47AC-9FBF-5923E6EC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6CBAC-4076-4270-9AF4-FA2CB062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87DA7C-7462-4AF5-876F-B51099FD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0C4FF-286F-48ED-B862-6293C83B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E6FDF9-74EF-4B1C-9601-DD35FA88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B39622-8F1B-4931-9ACC-8794B8C6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5635-488E-4E04-9A0A-94F6C5F8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79EA8-931B-4E6B-9D63-B6073ABC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9AF7EA-34E6-46E0-B5DE-38788B0B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E6AB4C-2BA2-40FD-A63A-D968B538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0A685-F820-421E-99CB-5F5CB27A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C7FEEE-90DD-49EF-A792-2ADD5304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B31340-4DA6-4213-B74F-D4884502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A58C3B-EDED-4792-9A0B-AEBD313D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F81B8F-B206-48BC-A04E-C95AB530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53C68B-7136-48D0-9534-3B9402B6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9A8BDB-A79E-4F6E-B092-03D2E16D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0CE-4954-472C-90D9-4FC9ADA4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CA49-F1D1-4673-8AF6-71CAA037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2EF569-347B-432E-BA13-6291D9FB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8B50D4-E732-4CC2-B1B7-089D976B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ED515E-FB57-4F67-A0AC-4A5BB167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2D1116-46CE-43AE-BEBC-312F9B1D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018F08-56BC-43FF-B9D3-8FBCFE77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0E4F27-1B7D-48F4-8C9C-B57BA6B1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56A685-1AE5-4A35-A471-465C515F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374466-4655-4540-907B-94995B6D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2D81B0-876A-48AE-9C31-91FF220F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32EBDB-CA1A-40EA-B020-1EEFB9C0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8E2A-0E01-42BD-A0DF-D78A628F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7EB3BF-C75A-4BE6-B588-021231A5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ED0DFC-6340-4B61-A159-6FA6EEC4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7A4851-E8BB-43E6-B583-2CCE00BD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BE870D-E19E-457E-B95A-CEC29BE3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A4F60D-3115-4574-930E-2CC677AD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2CAB67-0EC9-4174-9B1A-82EC34F0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992FDF-3C89-4DD9-BFE0-FC3AEBA7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1073E9-0449-4497-A94B-0557CFEB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F87DB7-864E-4222-B637-388E8448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6A38D7-3D86-4FA8-B515-C3B99183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BD47-A9A5-4883-949C-F1F80FE3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1C90AD-7E95-4602-8428-14A99DEF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9CA359-2386-41D9-9938-0630822F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387C0D-1FB3-4004-9F05-603102A8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683A2B-7F0F-44AB-AD57-0999C302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9E7407-D7BD-493E-BAD3-AA64C3FC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6C54EC-430D-4240-9EC3-FC154D61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1C04F9-91FA-45CB-924C-E47CEDDA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4C3025-AF86-4D7C-A8D3-7339AA6F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7F8EDA-93D8-4BE1-BD3B-AD8D1489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24511D-7D3C-4C2C-A80B-6ABEC218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960B-D12C-4707-A46D-E78AE822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C473E0-2BB8-40AD-97B4-CF7DA6AF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02D96A-F5F8-49D1-825E-0A947CAA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335FE7-6430-4D1A-8F4E-98A3AD1D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215B77-C834-49AE-9298-6E8243EA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4029AE-26CC-467F-A5FD-880356D1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71F4B3-96D1-48D0-8FA7-78819B37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84F327-DADD-45D7-B783-127AEED9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959152-AA1D-462D-BB0C-C1F40AF5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5FD46A-BE56-48E3-90A2-1AF5C921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22847C-F670-42BE-84C6-6B6CF627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5F88-F748-4A0B-ADE8-DFECBB65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AEA13A-2CDB-4667-9E1E-BB2A5571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043FC0-5ACD-413A-82DF-04088FFD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D5A1E8-A12A-4A95-BC45-E623AFC9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228D32-DBFF-4691-B7D0-C8D4B1D7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960948-6E31-4BCD-80EE-51C0823C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D5E895-E6AC-4E2F-8C83-1FB4643C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E6F468-23F3-4B31-B3ED-65660F00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7B675B-3160-4AD7-99CD-194D8792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A29E4F-1971-4721-9D0B-8D7B8A31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25B6D8-0301-406C-BB27-28728580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D14BA-4588-491C-AE39-AF5F8F36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689491-1184-4DC0-9AF1-1E8B3E81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0718AF-7709-4614-A405-559195BC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A10FD7-4B5C-4DE3-8A34-A4452C9D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C1D564-6DFC-4B7A-8BCC-502A8137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A74BC8-A7B2-4EFA-87E3-B2927844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57BE9A-2BB1-4D78-B549-BD9D373D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EF2220-F209-43B1-9117-8020C9A2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864342-3BA4-417D-B784-36767D93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4AC2C8-CA46-43F0-B8DC-433B0B8D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FDA77D-FEF4-4131-B156-BBBA287C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348A2-DB96-4B27-817C-3A24931F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7D146F-95A0-4FD0-AE9E-4CD26570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88874D-0720-4B4D-AFF5-3863A3B3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28A1A1-D9B8-4031-8C97-AD27F94D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86D808-5A93-46D0-AFE8-59506098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D9EA32-52B4-4C6D-A52B-3973CBBA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85F011-A1C4-49EC-B931-0BE37A10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049EF8-8623-4E45-AEA6-CC66DAE5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6C7F68-8B1A-429D-B3EA-B6C0DF94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E974E1-6AF5-4013-A6B9-63684C45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BD2282-CFF4-4907-91F5-066732F8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35803-FE83-4C4D-9462-1DB51EA4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689F7D-3765-4224-B908-7D67D1A0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4C6DBB-B99C-4419-BE39-0F402FDC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C99BD4-F112-4C7E-B639-EA29E076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0AE680-450B-4725-9978-2AE7BAD8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E1AEAA-2037-40E0-B87F-1C68B732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23F34E-DCA4-494B-AA2B-4CEC9C11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723833-66C6-4F0C-B15D-10550D92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818C0B-F753-4D91-8530-DA24A21A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C6D6B9-499D-4E2A-B0BF-A4F19EB3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7B3FA7-7E4B-4C03-B4F4-67F87492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2365-0E54-4C65-96A1-0527AE97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7721A5-8FA7-4A2B-ADFD-6E9BAC9D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87BFC6-CA23-4143-AE45-03D09FF3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ADF622-C42C-460E-9A80-D24FB3DD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3D8905-58AF-457F-9696-5FB635EB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346981-3ECB-4305-AAF3-5B03626E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AF5F1D-2AB5-4FEA-92FE-F34CE78E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AEAC8E-D5EF-49EB-8E64-9ECEFF97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AC2E5D-360D-4511-BDF2-BEF4F1E4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F047CF-982D-4B55-A495-E07F03D1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02AD19-F444-46E3-9985-493D7964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AC090-40D0-49CB-88E4-0F67C1AB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A8D9EE-A1E4-4D6E-95D9-698F4C81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A80C62-B691-479E-8F68-E6FD60A5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AB2D4A-F984-452A-A148-1B6E19CB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7D4FE0-EEB2-488B-B78E-F448D2F6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BB6C10-D06E-4412-BA48-0C03A31C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D25578-D878-489E-9AF4-4268308F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F8E514-5DF9-4BFC-81A1-B3263DF8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87F846-8DA5-4092-95B3-85B6D47D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7511C0-6459-4425-931E-EC9DDD19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DC71AD-645F-4C01-BE35-56065590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499-B92B-4FF0-BCA5-D780E551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0273-21AD-4738-BC58-507947E8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D08397-7504-46C9-ACDF-14D20844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3AB094-8C01-4383-949A-88540E87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2651AA-1FBB-4605-B2FA-9F8B1EAC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6B8F5D-0471-4106-8BC4-FF0F7079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7C11C3-C050-46D5-BDA3-43388731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C81998-DB06-46E0-80A5-8FDAD432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1CBA62-C85F-4BE6-9A95-E0D72A30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33FE9E-CE51-417F-89EA-C57CB8F2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8A037A-96E3-4792-A1B7-BAC8CF84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7E8CD9-101C-479E-8DFC-4BBD8FE6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A731-0FAE-4E05-8AC0-6907379B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63FF65-165D-43ED-8A24-3FC964A8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41A52C-D4EE-4604-9E4B-9447490A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0CA767-BFE5-4D4D-8A34-EA32D37E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71A774-8CFD-41AD-87C9-90AA3BE1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FB2D36-BF4F-4B44-AA3F-A5DFC540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EAC767-04C7-45E9-BA80-C467CAFA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FA314D-1BA5-4C18-852D-B40AEA23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655D23-D8D7-4506-A5A4-8B374057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827FA8-AF2E-4AD9-8420-C3D41853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7DAF65-A3AA-4680-8F19-3C8134ED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B25D9-8FB2-4F87-A78B-F194478F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335B61-8679-4F85-A0CE-FB5F7A68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994ED0-B458-4246-9A53-5B89DD0C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77F273-6D17-4D3B-B6E7-8E7CF0CB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CACA2E-4267-4029-BD57-89A63926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5116D4-5158-4FB0-AB63-92EF59D1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12CBF0-F82F-441C-9F1B-CC600A5C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77403D-675F-4BD4-964D-A55F1517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5997AB-2AFF-4C4C-87F1-8FD54F9D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486FBE-D4C3-48DA-BCFD-DDFAC7FB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70E361-F003-4DC4-9FA4-1082CD3E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67FDF-BCFF-4745-A046-FA4D8E9D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61FF16-4C60-4565-A2F0-0DF5F145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E6AC65-B1B6-47A8-9BD4-31F47E3D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3509F2-C3C7-438B-99DD-C16239EE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1B9F63-F68B-4FE1-8430-462CBECA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C77432-5A70-404F-AEFE-1571EB3C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0DAC55-1AEE-4046-97EF-636E23BA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201B63-ABB3-470A-B7FC-7115CD6D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5B7D1C-0706-48A1-BAD7-15F7ED3D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6F7E74-F85B-4C21-A7CF-B5660002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0695DC-8B18-443A-A7FC-F9A60C69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FCFE2-3001-4644-AC37-39763E6A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D8C173-42D2-42DD-B9FC-A773ABE2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AC44C3-FA17-4B90-8A97-109E5A6A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FEB510-F750-4635-82E3-F18BC670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437AE0-F60B-440B-94FC-0A84D05D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2C7BC3-3744-4006-A5F5-884673C0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9AF357-1DC9-4057-A7D4-17B800BB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92A9B0-4B98-4E12-BFDA-41FA0647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3BA5F3-7603-4E6C-929F-A1650CD3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0A81BB-86A1-413D-B561-140BCAC9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CDB459-B4F8-4E31-B6E0-4FB4357F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A06A1-2E06-428B-9CD2-12FEE61F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150742-637F-480D-81B3-43987725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C0BDC2-07D7-41E7-9C86-FFBEC47A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996CCC-2537-44B2-846A-BED36E48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31382C-7ED6-4BF1-A9E2-F8B1A811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3B7F1C-1ECD-4DE5-ACCA-0B4EBA49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A03240-95EA-42B3-8760-5C057608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342445-BC79-47A3-AF01-C86D77DC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793E74-D2C1-4D9A-B56A-5618ED69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D9CA97-708F-402E-A7D8-7B84AC9F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871F73-1804-4D58-8BFF-98489C5E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D3C94-61D6-46A6-99FC-97AEE87C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EF7503-8B02-454F-A06B-E7DDE0F1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1155AC-3002-4C7D-8C57-D4CEF166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1A2F49-71C6-4BA0-B297-137E8861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CF4B19-2E2C-43A3-A99E-228AB93C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EC03FC-8589-4DD2-B8B5-4B655F66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2BF393-CB16-4BEA-96D1-18DC0940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4DC6B3-2A8C-4D3A-9207-90113D57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8D6A1E-CD74-4CA6-9EE2-C2E5D34A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306141-CB9A-4C4C-B74D-82AA312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408DB1-284B-4149-9E98-96DA8377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24BAB-0E1C-4669-9A92-B6545D20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471D0D-8815-4022-A64F-85EF99AC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1049C2-80CE-4E4E-B613-C8C4B50E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34D514-D268-4AB8-9E02-C7E2F019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95D56-FB3E-47F8-AA59-F2C9BDAE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44386-25E2-4DB9-B42D-ACED0266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C69-450B-47DF-B29C-AAC2FFA9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2BA55-6671-4C4A-92FD-D372ED1B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A9E42-1CF0-4685-B00B-291A1EDE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D3A38-7CC9-4D0F-B6E4-24B9F3EA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3FCFF-4D64-4848-8CD3-E6A7C6DF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835FE-5B15-44F9-AFFB-C006A4E2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37C71-E946-45CF-A5F1-86085032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55372-E131-44A1-96EA-FA0857DF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C6DE9-631F-4B42-BA6B-7E5D8929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50429-E208-4100-854B-4459C5AA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D82B5-FE88-4690-A1F1-CBB2AD1F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53D-A7D2-4BDD-A482-0F06DCB9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1E94C-0856-43D8-8077-3CE31F09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E7252-89F3-48BA-8C31-B34B19E9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9D724-4E5E-468B-9D1E-CD74F3C9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14C00-C60D-4112-A8E4-52F50AA1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469DF-0413-4C80-9555-908565B5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845BE-1F77-44A2-94B3-088C756E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D58DA-50C2-49E8-8B9F-0F95CAE4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DF40F-81EE-44FB-959A-814C4566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2865C-5BEF-4A14-9C2D-7BA358A5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2EAA4-9F49-4271-91C3-E6A7168A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9E8C-AC15-4F63-908A-4C0FC94D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6924E-1188-4E6B-B57C-F7784866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A126B-8F5C-4C7C-8FBE-5F011223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03E30-BB3F-4042-8C55-9880DF58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6E9D3-E9AF-4527-A97B-7054A06E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45B48-D03E-45BA-8742-088816C8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4DCB4-13FD-4985-97C0-B895F584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B9839-CC13-4300-8F3D-AF231D3B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1BBD8-05C7-4638-B5BC-CF899F13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E26C6-E88E-4DFC-AC8B-154E8B7C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A8ED4-21AF-4F15-99BF-97A76D08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8D2-7C39-42B4-BA62-E568160B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2D28B-9992-4DE4-83D7-9F1DA00A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48088-4751-4801-AA62-0681DE7E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03E7E-E692-49B6-B537-8461B933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89C25-4D19-416F-8B93-FEE50FC5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570DD-0950-421F-A8C8-6921C1CB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1D0A5-6B2F-4037-B3EA-8272FDC2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0C4E3-6E0F-4A50-B4F5-96CD415F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94297-9F12-4CBE-9C2B-AC7BBAAF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CA07B-8BFE-42CE-9643-71C1B539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3816D-8D55-40B9-A68D-9EA904AB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E37-5D80-4AB1-A3DA-FF887281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0B50C-1654-43CE-B784-BA4C531C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0D13E-6634-427A-ABDE-02FD1B08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512A4-C246-47EB-8486-6A543F5D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9D691-6BDE-485F-B46F-4BCD1FDD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83B80-FFA0-4086-A070-E88A09D2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39BEF-AD19-48EA-81C5-AB700AF2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5ECB0-48ED-4E30-8E2D-98AC76D9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BEA0A-6170-49AC-8A5F-358FDE2D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7C6CD-887B-4269-A0A6-03811744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8804E-6642-4E20-9831-D7D1A03A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7FC-FA22-4CE6-98E8-B2926FAD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C6806-68BD-4F0F-8A74-2815C8FF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97310-0B1D-4770-9635-DC4E1283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A0561-BA8C-4476-B748-03620B64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A965A-501B-4A6F-97BA-72222CCD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1404B-5B59-4A68-9699-18F6FD49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4B44F-310D-4F2C-9D91-841FF43F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B4139-8344-4220-8969-19D41B88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3DC8A-CB12-44D3-B1E7-CF3FB1B1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3BF56-9D84-432B-A291-0D2AF16A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3EB6B-6CD3-489B-8ED9-59AF031F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3711-6D04-422F-9AB7-81047795B8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B71C-6B2E-443F-8C48-E0017337D6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7BB4-EB27-45D2-805A-736B6EBDCD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57A6-C095-4CFD-A7FA-954BCF09D4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2A8C-A576-4722-8C9B-1CBC6C2F20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92A8-C757-4909-A9AF-D0B1392A33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567B-C767-438B-8262-001CD85665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5A62-755C-4338-BF47-977F9E407B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256A-883A-48D2-B2AD-DE2AB77BC5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F526-3F9B-4A39-90A3-F3490C5052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3144-D7ED-4C6E-84F5-C9B8C4ADE7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DB16-D7D5-4A99-A567-0AADEFA789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6681-3380-42AF-9CF8-5C743F7D50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9561-9CE4-443E-90CA-6690920565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933C-199E-4FF4-8B8A-9D42DBC479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9FFF-C9CC-46DD-9CC9-E04797F173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C4D7-4821-47D3-9666-D8C9364329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6055-15CA-4381-9C82-D7AA4C02B4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0924-AAD5-43DD-9D0C-0EC3491C57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54B2-0E5A-4B20-BD17-CE5F8830B1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BD4E-2BC8-4DF8-AA1B-2B6980C82D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34E2-E97C-4795-A386-E0974D49E0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86FA-AFCF-4047-AA9A-60F89DD3B6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89A0-A28E-4369-AEAD-95995C2973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216C-672E-46CF-A6C9-4169F2146E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1C1E-A0BB-46AC-AFE7-5E0D37487E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B7E7-B72A-4CB7-9832-BC02755CEB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98C1-1519-423A-BB4C-F76A4ACD67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391A-D713-47AC-BE4C-9C2D26BE5F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17C0-1C30-4065-B222-595FE7BD5C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6A2D-3FD0-419F-9834-2A40620C4C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5C99-7EFF-432B-85C4-3941D5C0DB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6A6E-9BD8-46CB-B4E6-CABFBE73ED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11EE-CF48-4C3A-91D5-315F78A3F8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6EB2-77C8-4494-B522-543057355B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C8C2-6671-4DF7-8FF7-ED22E57735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952D-08D2-4C28-AE81-E5E4EE267F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0F4D-32EF-4E76-8DA2-250091297D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6A43-67B4-47F7-8B42-AB99B09541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6D67-67D8-45B3-B4C0-5888F97ABB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5BBB-F076-4337-9A0A-BF19B96BE9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1417-7839-4730-AFCC-6AF1BD68C0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6E4B-06A7-461E-8F09-9EEE3522E1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037B-1F70-4894-9198-CEF8FEA979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8FC9-D9C5-4FE5-8564-A9CFE3A9AC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2889-6D64-43FF-BAFD-585698C234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2D75-671F-4149-89EA-7D29EC2F89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3E72-564C-4F1C-BE2B-58717E46C8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7213-7F27-465A-8E37-B01E56F98D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C3FF-32C2-4276-9358-53589502F5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65160" y="936720"/>
            <a:ext cx="8658000" cy="112392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1330200" y="2946240"/>
            <a:ext cx="65343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图片 140289" descr=""/>
          <p:cNvPicPr/>
          <p:nvPr/>
        </p:nvPicPr>
        <p:blipFill>
          <a:blip r:embed="rId1"/>
          <a:stretch/>
        </p:blipFill>
        <p:spPr>
          <a:xfrm>
            <a:off x="330120" y="936720"/>
            <a:ext cx="8153640" cy="3562200"/>
          </a:xfrm>
          <a:prstGeom prst="rect">
            <a:avLst/>
          </a:prstGeom>
          <a:ln w="0">
            <a:noFill/>
          </a:ln>
        </p:spPr>
      </p:pic>
      <p:sp>
        <p:nvSpPr>
          <p:cNvPr id="1334" name="矩形 140290"/>
          <p:cNvSpPr/>
          <p:nvPr/>
        </p:nvSpPr>
        <p:spPr>
          <a:xfrm>
            <a:off x="7991640" y="1859040"/>
            <a:ext cx="4521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140291"/>
          <p:cNvSpPr/>
          <p:nvPr/>
        </p:nvSpPr>
        <p:spPr>
          <a:xfrm>
            <a:off x="800280" y="2300400"/>
            <a:ext cx="4521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140292"/>
          <p:cNvSpPr/>
          <p:nvPr/>
        </p:nvSpPr>
        <p:spPr>
          <a:xfrm>
            <a:off x="1930320" y="2300400"/>
            <a:ext cx="9352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140293"/>
          <p:cNvSpPr/>
          <p:nvPr/>
        </p:nvSpPr>
        <p:spPr>
          <a:xfrm>
            <a:off x="3625920" y="2300400"/>
            <a:ext cx="9349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4"/>
          <p:cNvSpPr/>
          <p:nvPr/>
        </p:nvSpPr>
        <p:spPr>
          <a:xfrm>
            <a:off x="6410160" y="2722680"/>
            <a:ext cx="1427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5"/>
          <p:cNvSpPr/>
          <p:nvPr/>
        </p:nvSpPr>
        <p:spPr>
          <a:xfrm>
            <a:off x="1128600" y="3605040"/>
            <a:ext cx="1427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6"/>
          <p:cNvSpPr/>
          <p:nvPr/>
        </p:nvSpPr>
        <p:spPr>
          <a:xfrm>
            <a:off x="3040200" y="4006800"/>
            <a:ext cx="14270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图片 139265" descr=""/>
          <p:cNvPicPr/>
          <p:nvPr/>
        </p:nvPicPr>
        <p:blipFill>
          <a:blip r:embed="rId1"/>
          <a:stretch/>
        </p:blipFill>
        <p:spPr>
          <a:xfrm>
            <a:off x="311040" y="826920"/>
            <a:ext cx="8039160" cy="5838840"/>
          </a:xfrm>
          <a:prstGeom prst="rect">
            <a:avLst/>
          </a:prstGeom>
          <a:ln w="0">
            <a:noFill/>
          </a:ln>
        </p:spPr>
      </p:pic>
      <p:sp>
        <p:nvSpPr>
          <p:cNvPr id="1342" name="矩形 139266"/>
          <p:cNvSpPr/>
          <p:nvPr/>
        </p:nvSpPr>
        <p:spPr>
          <a:xfrm>
            <a:off x="7612200" y="18795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39267"/>
          <p:cNvSpPr/>
          <p:nvPr/>
        </p:nvSpPr>
        <p:spPr>
          <a:xfrm>
            <a:off x="7632720" y="45910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4" name="图片 138241" descr=""/>
          <p:cNvPicPr/>
          <p:nvPr/>
        </p:nvPicPr>
        <p:blipFill>
          <a:blip r:embed="rId1"/>
          <a:stretch/>
        </p:blipFill>
        <p:spPr>
          <a:xfrm>
            <a:off x="369720" y="868320"/>
            <a:ext cx="8048880" cy="5477040"/>
          </a:xfrm>
          <a:prstGeom prst="rect">
            <a:avLst/>
          </a:prstGeom>
          <a:ln w="0">
            <a:noFill/>
          </a:ln>
        </p:spPr>
      </p:pic>
      <p:sp>
        <p:nvSpPr>
          <p:cNvPr id="1345" name="矩形 138242"/>
          <p:cNvSpPr/>
          <p:nvPr/>
        </p:nvSpPr>
        <p:spPr>
          <a:xfrm>
            <a:off x="7674120" y="91584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38243"/>
          <p:cNvSpPr/>
          <p:nvPr/>
        </p:nvSpPr>
        <p:spPr>
          <a:xfrm>
            <a:off x="7623000" y="3720960"/>
            <a:ext cx="77184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38244"/>
          <p:cNvSpPr/>
          <p:nvPr/>
        </p:nvSpPr>
        <p:spPr>
          <a:xfrm>
            <a:off x="666720" y="4132440"/>
            <a:ext cx="771480" cy="34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8245"/>
          <p:cNvSpPr/>
          <p:nvPr/>
        </p:nvSpPr>
        <p:spPr>
          <a:xfrm>
            <a:off x="3605040" y="5035680"/>
            <a:ext cx="1141560" cy="34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8246"/>
          <p:cNvSpPr/>
          <p:nvPr/>
        </p:nvSpPr>
        <p:spPr>
          <a:xfrm>
            <a:off x="7559640" y="5035680"/>
            <a:ext cx="936720" cy="34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8247"/>
          <p:cNvSpPr/>
          <p:nvPr/>
        </p:nvSpPr>
        <p:spPr>
          <a:xfrm>
            <a:off x="860400" y="5456160"/>
            <a:ext cx="5572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8248"/>
          <p:cNvSpPr/>
          <p:nvPr/>
        </p:nvSpPr>
        <p:spPr>
          <a:xfrm>
            <a:off x="3637080" y="5467320"/>
            <a:ext cx="114120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8249"/>
          <p:cNvSpPr/>
          <p:nvPr/>
        </p:nvSpPr>
        <p:spPr>
          <a:xfrm>
            <a:off x="7888320" y="5456160"/>
            <a:ext cx="5572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8250"/>
          <p:cNvSpPr/>
          <p:nvPr/>
        </p:nvSpPr>
        <p:spPr>
          <a:xfrm>
            <a:off x="849240" y="5908680"/>
            <a:ext cx="5572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图片 137217" descr=""/>
          <p:cNvPicPr/>
          <p:nvPr/>
        </p:nvPicPr>
        <p:blipFill>
          <a:blip r:embed="rId1"/>
          <a:stretch/>
        </p:blipFill>
        <p:spPr>
          <a:xfrm>
            <a:off x="349200" y="846000"/>
            <a:ext cx="7658280" cy="3667320"/>
          </a:xfrm>
          <a:prstGeom prst="rect">
            <a:avLst/>
          </a:prstGeom>
          <a:ln w="0">
            <a:noFill/>
          </a:ln>
        </p:spPr>
      </p:pic>
      <p:sp>
        <p:nvSpPr>
          <p:cNvPr id="1355" name="矩形 137218"/>
          <p:cNvSpPr/>
          <p:nvPr/>
        </p:nvSpPr>
        <p:spPr>
          <a:xfrm>
            <a:off x="1376280" y="2405160"/>
            <a:ext cx="668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7219"/>
          <p:cNvSpPr/>
          <p:nvPr/>
        </p:nvSpPr>
        <p:spPr>
          <a:xfrm>
            <a:off x="3873600" y="2386080"/>
            <a:ext cx="8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7220"/>
          <p:cNvSpPr/>
          <p:nvPr/>
        </p:nvSpPr>
        <p:spPr>
          <a:xfrm>
            <a:off x="6545160" y="2386080"/>
            <a:ext cx="8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7221"/>
          <p:cNvSpPr/>
          <p:nvPr/>
        </p:nvSpPr>
        <p:spPr>
          <a:xfrm>
            <a:off x="1265400" y="4030560"/>
            <a:ext cx="863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7222"/>
          <p:cNvSpPr/>
          <p:nvPr/>
        </p:nvSpPr>
        <p:spPr>
          <a:xfrm>
            <a:off x="3936960" y="4030560"/>
            <a:ext cx="8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7223"/>
          <p:cNvSpPr/>
          <p:nvPr/>
        </p:nvSpPr>
        <p:spPr>
          <a:xfrm>
            <a:off x="6588000" y="4051440"/>
            <a:ext cx="8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图片 136193" descr=""/>
          <p:cNvPicPr/>
          <p:nvPr/>
        </p:nvPicPr>
        <p:blipFill>
          <a:blip r:embed="rId1"/>
          <a:stretch/>
        </p:blipFill>
        <p:spPr>
          <a:xfrm>
            <a:off x="236520" y="819000"/>
            <a:ext cx="8315280" cy="148608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136194" descr=""/>
          <p:cNvPicPr/>
          <p:nvPr/>
        </p:nvPicPr>
        <p:blipFill>
          <a:blip r:embed="rId2"/>
          <a:stretch/>
        </p:blipFill>
        <p:spPr>
          <a:xfrm>
            <a:off x="963720" y="2349360"/>
            <a:ext cx="7553160" cy="215280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136195" descr=""/>
          <p:cNvPicPr/>
          <p:nvPr/>
        </p:nvPicPr>
        <p:blipFill>
          <a:blip r:embed="rId3"/>
          <a:stretch/>
        </p:blipFill>
        <p:spPr>
          <a:xfrm>
            <a:off x="566640" y="4514760"/>
            <a:ext cx="8010720" cy="2324160"/>
          </a:xfrm>
          <a:prstGeom prst="rect">
            <a:avLst/>
          </a:prstGeom>
          <a:ln w="0">
            <a:noFill/>
          </a:ln>
        </p:spPr>
      </p:pic>
      <p:sp>
        <p:nvSpPr>
          <p:cNvPr id="1364" name="矩形 136196"/>
          <p:cNvSpPr/>
          <p:nvPr/>
        </p:nvSpPr>
        <p:spPr>
          <a:xfrm>
            <a:off x="7797960" y="33084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136197"/>
          <p:cNvSpPr/>
          <p:nvPr/>
        </p:nvSpPr>
        <p:spPr>
          <a:xfrm>
            <a:off x="7859880" y="4572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图片 135169" descr=""/>
          <p:cNvPicPr/>
          <p:nvPr/>
        </p:nvPicPr>
        <p:blipFill>
          <a:blip r:embed="rId1"/>
          <a:stretch/>
        </p:blipFill>
        <p:spPr>
          <a:xfrm>
            <a:off x="293760" y="919080"/>
            <a:ext cx="8124840" cy="4867200"/>
          </a:xfrm>
          <a:prstGeom prst="rect">
            <a:avLst/>
          </a:prstGeom>
          <a:ln w="0">
            <a:noFill/>
          </a:ln>
        </p:spPr>
      </p:pic>
      <p:sp>
        <p:nvSpPr>
          <p:cNvPr id="1367" name="矩形 135170"/>
          <p:cNvSpPr/>
          <p:nvPr/>
        </p:nvSpPr>
        <p:spPr>
          <a:xfrm>
            <a:off x="6791400" y="905040"/>
            <a:ext cx="1563480" cy="37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5171"/>
          <p:cNvSpPr/>
          <p:nvPr/>
        </p:nvSpPr>
        <p:spPr>
          <a:xfrm>
            <a:off x="730080" y="1387440"/>
            <a:ext cx="998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5172"/>
          <p:cNvSpPr/>
          <p:nvPr/>
        </p:nvSpPr>
        <p:spPr>
          <a:xfrm>
            <a:off x="4695840" y="1387440"/>
            <a:ext cx="998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5173"/>
          <p:cNvSpPr/>
          <p:nvPr/>
        </p:nvSpPr>
        <p:spPr>
          <a:xfrm>
            <a:off x="679320" y="1839960"/>
            <a:ext cx="998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1" name="图片 134145" descr=""/>
          <p:cNvPicPr/>
          <p:nvPr/>
        </p:nvPicPr>
        <p:blipFill>
          <a:blip r:embed="rId1"/>
          <a:stretch/>
        </p:blipFill>
        <p:spPr>
          <a:xfrm>
            <a:off x="266760" y="835200"/>
            <a:ext cx="8153280" cy="5543280"/>
          </a:xfrm>
          <a:prstGeom prst="rect">
            <a:avLst/>
          </a:prstGeom>
          <a:ln w="0">
            <a:noFill/>
          </a:ln>
        </p:spPr>
      </p:pic>
      <p:sp>
        <p:nvSpPr>
          <p:cNvPr id="1372" name="矩形 134146"/>
          <p:cNvSpPr/>
          <p:nvPr/>
        </p:nvSpPr>
        <p:spPr>
          <a:xfrm>
            <a:off x="4776840" y="13352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4147"/>
          <p:cNvSpPr/>
          <p:nvPr/>
        </p:nvSpPr>
        <p:spPr>
          <a:xfrm>
            <a:off x="2927520" y="1817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4148"/>
          <p:cNvSpPr/>
          <p:nvPr/>
        </p:nvSpPr>
        <p:spPr>
          <a:xfrm>
            <a:off x="1181160" y="22701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4149"/>
          <p:cNvSpPr/>
          <p:nvPr/>
        </p:nvSpPr>
        <p:spPr>
          <a:xfrm>
            <a:off x="1868400" y="4591080"/>
            <a:ext cx="60008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6" name="图片 133121" descr=""/>
          <p:cNvPicPr/>
          <p:nvPr/>
        </p:nvPicPr>
        <p:blipFill>
          <a:blip r:embed="rId1"/>
          <a:stretch/>
        </p:blipFill>
        <p:spPr>
          <a:xfrm>
            <a:off x="320760" y="890640"/>
            <a:ext cx="7257960" cy="4467240"/>
          </a:xfrm>
          <a:prstGeom prst="rect">
            <a:avLst/>
          </a:prstGeom>
          <a:ln w="0">
            <a:noFill/>
          </a:ln>
        </p:spPr>
      </p:pic>
      <p:sp>
        <p:nvSpPr>
          <p:cNvPr id="1377" name="矩形 133122"/>
          <p:cNvSpPr/>
          <p:nvPr/>
        </p:nvSpPr>
        <p:spPr>
          <a:xfrm>
            <a:off x="739800" y="3935520"/>
            <a:ext cx="579600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3123"/>
          <p:cNvSpPr/>
          <p:nvPr/>
        </p:nvSpPr>
        <p:spPr>
          <a:xfrm>
            <a:off x="739800" y="4449600"/>
            <a:ext cx="579600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3124"/>
          <p:cNvSpPr/>
          <p:nvPr/>
        </p:nvSpPr>
        <p:spPr>
          <a:xfrm>
            <a:off x="739800" y="4911840"/>
            <a:ext cx="579600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32:30Z</dcterms:modified>
  <cp:revision>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